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7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Custom Show 1" id="0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E86-7805-41A2-8C1C-8A0522A5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060-9556-4A48-86F9-E035F259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367-F3B5-4276-8FF1-4AD0A253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474-8942-4366-A6B1-3D868983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127A-CB22-4543-977E-284B0764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0A91-D436-45CE-8866-76F55499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8657-AFAB-442F-A97B-CBA0403E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D401-D85E-478F-A344-A3329F43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098F-8F4D-46B4-9F02-6F04108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A3D2-305F-4001-9130-8E8E4428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E35E-F520-42AA-AE92-04EF13A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149-ACB3-4BC1-B4EE-63F3BEFC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4F48-9D95-48FE-B574-A8BF318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51D1-B303-4290-978A-CC6AD9FC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869F-2DF9-46EA-B869-9FAD0539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B49A-F75C-4813-9059-1F2C288D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39A8-7608-4783-AE62-BB990332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37D-D365-4574-B8A4-2393092C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66A-678B-410C-90A3-1751BFBC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F86-543E-4FB6-9075-B1A23BF1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C5A-15B1-4D52-9760-D9E6E61E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2BF-22D6-4B28-8BDF-F609EBB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0F6-5532-44F5-B388-1B964056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368-5CCA-4270-AE30-24AEBB3F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4DB1-D2E3-423F-8FFF-9C1A37F30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0D98-09A5-491A-B8A6-145E395692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imetogo.wav" TargetMode="External"/><Relationship Id="rId2" Type="http://schemas.microsoft.com/office/2007/relationships/media" Target="file:///tmp/home/.config/libreoffice/4/user/gallery/Timetogo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747F-C16C-4586-9E4A-DE4F43B71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196360" y="6858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6000" spc="-1" strike="noStrike" u="sng">
                <a:solidFill>
                  <a:srgbClr val="cc0000"/>
                </a:solidFill>
                <a:uFillTx/>
                <a:latin typeface="Comic Sans MS"/>
              </a:rPr>
              <a:t>IR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609200" y="3398760"/>
            <a:ext cx="596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el infin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to g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8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13D7-7A76-4F4B-BEA9-0AEFC015B0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688040" y="712800"/>
            <a:ext cx="54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 él hoy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2993760" y="286380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El va al colegi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8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3259080" y="4276800"/>
            <a:ext cx="2608200" cy="2352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9"/>
          <p:cNvSpPr/>
          <p:nvPr/>
        </p:nvSpPr>
        <p:spPr>
          <a:xfrm>
            <a:off x="1424160" y="1981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He is going to the high scho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C27C-67DE-4AA9-8480-7D28C8AD0D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048"/>
          <p:cNvSpPr/>
          <p:nvPr/>
        </p:nvSpPr>
        <p:spPr>
          <a:xfrm>
            <a:off x="1688040" y="712800"/>
            <a:ext cx="592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 Ud. hoy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49"/>
          <p:cNvSpPr/>
          <p:nvPr/>
        </p:nvSpPr>
        <p:spPr>
          <a:xfrm>
            <a:off x="2783520" y="286380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Yo voy a la fiest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052" descr="c:\Program Files\Microsoft Office\Clipart\standard\stddir1\bd07176_.wmf"/>
          <p:cNvPicPr/>
          <p:nvPr/>
        </p:nvPicPr>
        <p:blipFill>
          <a:blip r:embed="rId1"/>
          <a:stretch/>
        </p:blipFill>
        <p:spPr>
          <a:xfrm>
            <a:off x="3276720" y="4114800"/>
            <a:ext cx="2662200" cy="2500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53"/>
          <p:cNvSpPr/>
          <p:nvPr/>
        </p:nvSpPr>
        <p:spPr>
          <a:xfrm>
            <a:off x="2245680" y="190512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’m going to the part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A16D-5223-4FEF-A67C-E6CFFEFFFD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2301120" y="868320"/>
            <a:ext cx="4522680" cy="1571760"/>
            <a:chOff x="2301120" y="868320"/>
            <a:chExt cx="4522680" cy="1571760"/>
          </a:xfrm>
        </p:grpSpPr>
        <p:sp>
          <p:nvSpPr>
            <p:cNvPr id="163" name="Text Box 24"/>
            <p:cNvSpPr/>
            <p:nvPr/>
          </p:nvSpPr>
          <p:spPr>
            <a:xfrm>
              <a:off x="2419200" y="868320"/>
              <a:ext cx="4191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cc0000"/>
                  </a:solidFill>
                  <a:latin typeface="Comic Sans MS"/>
                </a:rPr>
                <a:t>¿</a:t>
              </a:r>
              <a:r>
                <a:rPr b="0" i="1" lang="en-US" sz="4800" spc="-1" strike="noStrike" u="sng">
                  <a:solidFill>
                    <a:srgbClr val="cc0000"/>
                  </a:solidFill>
                  <a:uFillTx/>
                  <a:latin typeface="Comic Sans MS"/>
                </a:rPr>
                <a:t>Cómo vamos</a:t>
              </a:r>
              <a:r>
                <a:rPr b="0" i="1" lang="en-US" sz="4800" spc="-1" strike="noStrike">
                  <a:solidFill>
                    <a:srgbClr val="cc0000"/>
                  </a:solidFill>
                  <a:latin typeface="Comic Sans MS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301120" y="1858680"/>
              <a:ext cx="45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¿How do we get there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Text Box 29"/>
          <p:cNvSpPr/>
          <p:nvPr/>
        </p:nvSpPr>
        <p:spPr>
          <a:xfrm>
            <a:off x="1752480" y="345924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otros vamos en ca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34" descr="c:\Program Files\Microsoft Office\Clipart\smbusbas\bd10454_.wmf"/>
          <p:cNvPicPr/>
          <p:nvPr/>
        </p:nvPicPr>
        <p:blipFill>
          <a:blip r:embed="rId1"/>
          <a:stretch/>
        </p:blipFill>
        <p:spPr>
          <a:xfrm>
            <a:off x="2666880" y="4181400"/>
            <a:ext cx="3772080" cy="2371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5"/>
          <p:cNvSpPr/>
          <p:nvPr/>
        </p:nvSpPr>
        <p:spPr>
          <a:xfrm>
            <a:off x="1752480" y="26668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go by c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6EFA-B618-408C-AA63-A4DE4EABE9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2057400" y="8524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Cómo van ellos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590920" y="2925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los van en autobú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31" descr="c:\Program Files\Microsoft Office\Clipart\standard\stddir1\bd07190_.wmf"/>
          <p:cNvPicPr/>
          <p:nvPr/>
        </p:nvPicPr>
        <p:blipFill>
          <a:blip r:embed="rId1"/>
          <a:stretch/>
        </p:blipFill>
        <p:spPr>
          <a:xfrm>
            <a:off x="3052800" y="3916440"/>
            <a:ext cx="2967120" cy="28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2"/>
          <p:cNvSpPr/>
          <p:nvPr/>
        </p:nvSpPr>
        <p:spPr>
          <a:xfrm>
            <a:off x="259092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go by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1E12-9257-4EE3-B103-4D17C9FF72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2286000" y="8524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Cómo vas tú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362320" y="2895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o voy en bicicle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30" descr="c:\Program Files\Microsoft Office\Clipart\standard\stddir1\bd05655_.wmf"/>
          <p:cNvPicPr/>
          <p:nvPr/>
        </p:nvPicPr>
        <p:blipFill>
          <a:blip r:embed="rId1"/>
          <a:stretch/>
        </p:blipFill>
        <p:spPr>
          <a:xfrm>
            <a:off x="3162240" y="4044960"/>
            <a:ext cx="2857680" cy="2584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1"/>
          <p:cNvSpPr/>
          <p:nvPr/>
        </p:nvSpPr>
        <p:spPr>
          <a:xfrm>
            <a:off x="2362320" y="2057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go by bi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BA5E-369A-4788-8F01-2002BA88B4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Vamos a terminar ahora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c:\Program Files\Microsoft Office\Clipart\corpbas\j0079100.wmf"/>
          <p:cNvPicPr/>
          <p:nvPr/>
        </p:nvPicPr>
        <p:blipFill>
          <a:blip r:embed="rId1"/>
          <a:stretch/>
        </p:blipFill>
        <p:spPr>
          <a:xfrm>
            <a:off x="2747880" y="24382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chimes.wav"/>
      </p:stSnd>
    </p:sndAc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D42D-26F4-4DA8-BD26-2A0DFDF1DF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1209240" y="1017720"/>
            <a:ext cx="380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223560" y="2743200"/>
            <a:ext cx="84387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I go to the park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Yo voy al parqu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8" descr="c:\Program Files\Microsoft Office\Clipart\standard\stddir1\bd05090_.wmf"/>
          <p:cNvPicPr/>
          <p:nvPr/>
        </p:nvPicPr>
        <p:blipFill>
          <a:blip r:embed="rId1"/>
          <a:stretch/>
        </p:blipFill>
        <p:spPr>
          <a:xfrm>
            <a:off x="6400800" y="304920"/>
            <a:ext cx="2362320" cy="213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9"/>
          <p:cNvSpPr/>
          <p:nvPr/>
        </p:nvSpPr>
        <p:spPr>
          <a:xfrm>
            <a:off x="357120" y="4846680"/>
            <a:ext cx="86583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We go to the movi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Vamos al cin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248F-4645-4706-8639-C84A64BF6B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Group 1052"/>
          <p:cNvGrpSpPr/>
          <p:nvPr/>
        </p:nvGrpSpPr>
        <p:grpSpPr>
          <a:xfrm>
            <a:off x="1374480" y="1066680"/>
            <a:ext cx="6602760" cy="1206360"/>
            <a:chOff x="1374480" y="1066680"/>
            <a:chExt cx="6602760" cy="1206360"/>
          </a:xfrm>
        </p:grpSpPr>
        <p:sp>
          <p:nvSpPr>
            <p:cNvPr id="110" name="Text Box 1048"/>
            <p:cNvSpPr/>
            <p:nvPr/>
          </p:nvSpPr>
          <p:spPr>
            <a:xfrm>
              <a:off x="1374480" y="1066680"/>
              <a:ext cx="6602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El Presente del Verbo IR: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 Box 1049"/>
            <p:cNvSpPr/>
            <p:nvPr/>
          </p:nvSpPr>
          <p:spPr>
            <a:xfrm>
              <a:off x="2058840" y="1752480"/>
              <a:ext cx="52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irregular in the present tense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Text Box 1050"/>
          <p:cNvSpPr/>
          <p:nvPr/>
        </p:nvSpPr>
        <p:spPr>
          <a:xfrm>
            <a:off x="1371600" y="2514600"/>
            <a:ext cx="4572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Usted, él, e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sotros, noso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Vosotros, voso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Ustedes, ellos, el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051"/>
          <p:cNvSpPr/>
          <p:nvPr/>
        </p:nvSpPr>
        <p:spPr>
          <a:xfrm>
            <a:off x="5791320" y="2514600"/>
            <a:ext cx="3276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o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28F6-B7EA-4207-9621-217E37C5EE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380880" y="152280"/>
            <a:ext cx="8610840" cy="1632960"/>
            <a:chOff x="380880" y="152280"/>
            <a:chExt cx="8610840" cy="1632960"/>
          </a:xfrm>
        </p:grpSpPr>
        <p:sp>
          <p:nvSpPr>
            <p:cNvPr id="116" name="Text Box 27"/>
            <p:cNvSpPr/>
            <p:nvPr/>
          </p:nvSpPr>
          <p:spPr>
            <a:xfrm>
              <a:off x="1324800" y="152280"/>
              <a:ext cx="645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El Presente del Verbo IR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380880" y="838080"/>
              <a:ext cx="8610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he verb ir is generally followed by the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eposition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(or the contraction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)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Text Box 44"/>
          <p:cNvSpPr/>
          <p:nvPr/>
        </p:nvSpPr>
        <p:spPr>
          <a:xfrm>
            <a:off x="152280" y="2895480"/>
            <a:ext cx="3124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sted, él, e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Nosotros, nos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Vosotros, vos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stedes, ellos, el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3200400" y="2900520"/>
            <a:ext cx="1371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49"/>
          <p:cNvSpPr/>
          <p:nvPr/>
        </p:nvSpPr>
        <p:spPr>
          <a:xfrm flipV="1">
            <a:off x="4267080" y="38833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50"/>
          <p:cNvSpPr/>
          <p:nvPr/>
        </p:nvSpPr>
        <p:spPr>
          <a:xfrm flipV="1">
            <a:off x="4952880" y="3349080"/>
            <a:ext cx="8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Comic Sans MS"/>
              </a:rPr>
              <a:t>a 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1"/>
          <p:cNvSpPr/>
          <p:nvPr/>
        </p:nvSpPr>
        <p:spPr>
          <a:xfrm flipV="1">
            <a:off x="6477120" y="4493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parqu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2"/>
          <p:cNvSpPr/>
          <p:nvPr/>
        </p:nvSpPr>
        <p:spPr>
          <a:xfrm flipV="1">
            <a:off x="5791320" y="38070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3"/>
          <p:cNvSpPr/>
          <p:nvPr/>
        </p:nvSpPr>
        <p:spPr>
          <a:xfrm flipV="1">
            <a:off x="6324480" y="31982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la fies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6400800" y="5105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masculine no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5"/>
          <p:cNvSpPr/>
          <p:nvPr/>
        </p:nvSpPr>
        <p:spPr>
          <a:xfrm>
            <a:off x="647712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femenine no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8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3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B35-9C2C-4039-B96A-8185CCD3BB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48"/>
          <p:cNvSpPr/>
          <p:nvPr/>
        </p:nvSpPr>
        <p:spPr>
          <a:xfrm>
            <a:off x="1295640" y="1004760"/>
            <a:ext cx="468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¿Adónde 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vamos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49"/>
          <p:cNvSpPr/>
          <p:nvPr/>
        </p:nvSpPr>
        <p:spPr>
          <a:xfrm>
            <a:off x="2151000" y="3886200"/>
            <a:ext cx="45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dónde + ir ?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055"/>
          <p:cNvSpPr/>
          <p:nvPr/>
        </p:nvSpPr>
        <p:spPr>
          <a:xfrm>
            <a:off x="1219320" y="2057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Adón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question-asking word that indicat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 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 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056"/>
          <p:cNvSpPr/>
          <p:nvPr/>
        </p:nvSpPr>
        <p:spPr>
          <a:xfrm>
            <a:off x="1828800" y="4648320"/>
            <a:ext cx="5638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dónde + vamos mañan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To) Where are we going tomorrow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057"/>
          <p:cNvSpPr/>
          <p:nvPr/>
        </p:nvSpPr>
        <p:spPr>
          <a:xfrm>
            <a:off x="838080" y="56530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omic Sans MS"/>
              </a:rPr>
              <a:t>Mañana (nosotros) vamos a la fiesta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80D4-D5DB-4D11-808A-F2C83598F8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1219320" y="216216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¿Adónde vamos?”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Nosotros vamos a la fiesta de cumpleaños de Pedr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1828800" y="4267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¿Dónde está Pedro?”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edro está en la escuel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7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3429000" y="579132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8"/>
          <p:cNvSpPr/>
          <p:nvPr/>
        </p:nvSpPr>
        <p:spPr>
          <a:xfrm>
            <a:off x="1295280" y="10666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i="1" lang="es-ES" sz="3600" spc="-1" strike="noStrike" u="sng">
                <a:solidFill>
                  <a:srgbClr val="cc0000"/>
                </a:solidFill>
                <a:uFillTx/>
                <a:latin typeface="Comic Sans MS"/>
              </a:rPr>
              <a:t>Adónde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?</a:t>
            </a:r>
            <a:r>
              <a:rPr b="1" lang="es-ES" sz="3600" spc="-1" strike="noStrike">
                <a:solidFill>
                  <a:srgbClr val="cc0000"/>
                </a:solidFill>
                <a:latin typeface="Comic Sans MS"/>
              </a:rPr>
              <a:t> no es igual a 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i="1" lang="es-ES" sz="3600" spc="-1" strike="noStrike" u="sng">
                <a:solidFill>
                  <a:srgbClr val="cc0000"/>
                </a:solidFill>
                <a:uFillTx/>
                <a:latin typeface="Comic Sans MS"/>
              </a:rPr>
              <a:t>dónde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2363-FBB8-4520-B1FF-7E45783F40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1554480" y="712800"/>
            <a:ext cx="64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s mañana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676520" y="2587680"/>
            <a:ext cx="5838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Comic Sans MS"/>
              </a:rPr>
              <a:t>Yo voy al médico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hot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dent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parq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c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caf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hos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restaur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supermerc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3276720" y="18288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+ el = 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A929-6581-4BD4-B8A6-0598CFF5FC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048"/>
          <p:cNvSpPr/>
          <p:nvPr/>
        </p:nvSpPr>
        <p:spPr>
          <a:xfrm>
            <a:off x="1723680" y="712800"/>
            <a:ext cx="626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n ustedes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49"/>
          <p:cNvSpPr/>
          <p:nvPr/>
        </p:nvSpPr>
        <p:spPr>
          <a:xfrm>
            <a:off x="838080" y="278604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Comic Sans MS"/>
              </a:rPr>
              <a:t>Nosotros vamos a la médica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bibliote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ciu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ofic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dent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igl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librerí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play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50"/>
          <p:cNvSpPr/>
          <p:nvPr/>
        </p:nvSpPr>
        <p:spPr>
          <a:xfrm>
            <a:off x="2971800" y="1905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+ la = a  l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A78-BCE0-466A-A7D7-0996DDAC38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402200" y="712800"/>
            <a:ext cx="64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s mañana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2900160" y="286380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Yo voy al ban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2" descr="c:\Program Files\Microsoft Office\Clipart\standard\stddir2\bs00750_.wmf"/>
          <p:cNvPicPr/>
          <p:nvPr/>
        </p:nvPicPr>
        <p:blipFill>
          <a:blip r:embed="rId1"/>
          <a:stretch/>
        </p:blipFill>
        <p:spPr>
          <a:xfrm>
            <a:off x="2660760" y="3889440"/>
            <a:ext cx="3816360" cy="2816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3"/>
          <p:cNvSpPr/>
          <p:nvPr/>
        </p:nvSpPr>
        <p:spPr>
          <a:xfrm>
            <a:off x="2260800" y="205740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’m going to the bank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Bolivar Vivanco</dc:creator>
  <dc:description/>
  <dc:language>en-US</dc:language>
  <cp:lastModifiedBy>Jeff</cp:lastModifiedBy>
  <dcterms:modified xsi:type="dcterms:W3CDTF">2010-10-21T20:18:11Z</dcterms:modified>
  <cp:revision>74</cp:revision>
  <dc:subject/>
  <dc:title>PowerPoint Presentation</dc:title>
</cp:coreProperties>
</file>